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22FA-F702-41B6-8C86-8306CB3B0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E7CC-3AA2-4636-A4AC-76B4FAA43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61B8-A24E-4A81-8FBE-E0B7E59EA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0A4B-4DD3-4EBB-A548-5FCB38611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2C2E3-5F92-4103-9B02-5F856ED56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D8577-B717-4026-901D-04C51F01C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6224E-8FD5-4D9A-817F-6BB1F18E7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F1ACD-B9F1-4A0A-A7D8-4ABB0A943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3259D-A3FF-40EC-A878-9C0BA8B3F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FFC9D-3BA5-4C71-9CE4-823CF5062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402A3-705D-4D3C-8C1D-FB022555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6D8C-3C2A-4794-8552-6DFEA5BEA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1C8E5-EB19-4026-BEF5-E45E2149F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00959-051F-4322-8D3A-B23919431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A5E4D-589B-405D-A7A2-64865CCAE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2E378-4035-4BA5-A39A-981246B04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D8818-4EC5-4782-9C3A-9D26CD6F0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0D1F-E69C-45AF-AFAD-8F56F3801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0DA3-24FC-46EC-B696-CFB3AEEC2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1B5E-42C1-469C-9DAF-D2F7B041B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4DCF-C65E-4279-A9A2-E034D3414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6F4C-F0FD-4CAA-920C-57F7A987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A7D0-CE23-4C52-9124-544BC25C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EE1F-C765-4A09-AB6B-C41FF2DC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ff66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03191-4D86-4660-90FD-B670A3C2033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660066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86CA4-DE39-46FD-8277-FC5A9BA052F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ffff66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0099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660066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1270080"/>
            <a:ext cx="777240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Garamond"/>
              </a:rPr>
              <a:t>Сравнение объектов по пространственным признакам</a:t>
            </a:r>
            <a:endParaRPr b="0" lang="en-US" sz="48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91" name=""/>
          <p:cNvSpPr/>
          <p:nvPr/>
        </p:nvSpPr>
        <p:spPr>
          <a:xfrm>
            <a:off x="1258920" y="328464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форма, величина, расположение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219640" y="465300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Выполнила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Карманова Евгения, студентка 646 групп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11280" y="602136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ыктывкар, 2010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24000" y="3984480"/>
            <a:ext cx="230328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24000" y="260280"/>
            <a:ext cx="8424720" cy="24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дачи по формированию элементарных математических представл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«Программа воспитания и обучения в детском саду» под ред. М.А.Васильевой – 2007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3213000"/>
            <a:ext cx="82090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младшая группа (2-3 года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660066"/>
                </a:solidFill>
                <a:uFillTx/>
                <a:latin typeface="Arial"/>
              </a:rPr>
              <a:t>Величина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ивлекать внимание детей к предметам контрастных размеров и их обозначению в речи (большой дом-маленький доми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660066"/>
                </a:solidFill>
                <a:uFillTx/>
                <a:latin typeface="Arial"/>
              </a:rPr>
              <a:t>Форма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чить различать предметы по форме и называть их (кубик, кирпичик, ша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95280" y="333360"/>
            <a:ext cx="8424720" cy="69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I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младшая груп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660066"/>
                </a:solidFill>
                <a:uFillTx/>
                <a:latin typeface="Arial"/>
              </a:rPr>
              <a:t>Величина</a:t>
            </a:r>
            <a:r>
              <a:rPr b="1" lang="ru-RU" sz="1800" spc="-1" strike="noStrike" u="sng">
                <a:solidFill>
                  <a:srgbClr val="660066"/>
                </a:solidFill>
                <a:uFillTx/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- сравнивать предметы контрастных и одинаковых размер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- при сравнении предметов соизмерять один предмет с другим по заданному признаку величины (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лине, ширине, высоте, величине в цел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, пользуясь приемами наложения и прилож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- обозначать результат сравнения словами: длинный- короткий, широкий- узкий, высокий- низкий, большой- малень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660066"/>
                </a:solidFill>
                <a:uFillTx/>
                <a:latin typeface="Arial"/>
              </a:rPr>
              <a:t>Фор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познакомить детей с геометрическими фигурами – кругом, квадратом, треугольником; учить обследовать форму этих фигур, используя зрение и осяз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39640" y="476280"/>
            <a:ext cx="8136000" cy="60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редняя груп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66"/>
                </a:solidFill>
                <a:uFillTx/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660066"/>
                </a:solidFill>
                <a:uFillTx/>
                <a:latin typeface="Arial"/>
              </a:rPr>
              <a:t>Величи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- учить сравнивать 2 предмета по толщине путем непосредственного наложения и приложения их друг к друг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- отражать результаты сравнения в речи, используя прилагательные: длинее- короче, шире- уже, выше- ниже, толще- тоньш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- учить сравнивать предметы по 2 признакам величины (жёлтый шарф короче и уже синего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- устанавливать размерные отношения между 3-5 предметами разной длины (ширины, высоты), толщины, располагать их в определенной последовательности – в порядке убывания или нарастания величин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- вводить в активную речь детей понятия, обозначающие размерные отношения предметов (самая высокая- пониже- еще ниже- самая низка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8360" y="836640"/>
            <a:ext cx="8280360" cy="26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660066"/>
                </a:solidFill>
                <a:uFillTx/>
                <a:latin typeface="Arial"/>
              </a:rPr>
              <a:t>Форма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познакомить детей с прямоугольником, сравнивая его с кругом, квадратом, треугольник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учить соотносить форму предметов с известными геометрическими фигурами: тарелка - круг, мяч - шар, дверь - прямоугольник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68360" y="407664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7308720" y="3933720"/>
            <a:ext cx="2051280" cy="20512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219640" y="4149720"/>
            <a:ext cx="1081080" cy="165564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516720" y="4653000"/>
            <a:ext cx="936720" cy="720720"/>
          </a:xfrm>
          <a:prstGeom prst="rightArrow">
            <a:avLst>
              <a:gd name="adj1" fmla="val 50000"/>
              <a:gd name="adj2" fmla="val 3249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564000" y="4292640"/>
            <a:ext cx="1366920" cy="1297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484360" y="4653000"/>
            <a:ext cx="863640" cy="720720"/>
          </a:xfrm>
          <a:prstGeom prst="leftArrow">
            <a:avLst>
              <a:gd name="adj1" fmla="val 50000"/>
              <a:gd name="adj2" fmla="val 2995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68360" y="333360"/>
            <a:ext cx="8424720" cy="62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Старшая груп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660066"/>
                </a:solidFill>
                <a:uFillTx/>
                <a:latin typeface="Arial"/>
              </a:rPr>
              <a:t>Величина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учить устанавливать размерные отношения между 5-10 предмет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сравнивать 2 предмета по величине (длине, ширине, высоте) опосредованно – с помощью третьего (условной меры), равного одному из сравниваемых предме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развивать глазомер детей, умение находить предметы длиннее (короче), выше (ниже), шире (уже), толще (тоньше) образца и равные 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660066"/>
                </a:solidFill>
                <a:uFillTx/>
                <a:latin typeface="Arial"/>
              </a:rPr>
              <a:t>Форм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познакомить детей с овалом на основе сравнения его с кругом и прямоугольником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развивать геометрическую зоркость: находить в ближайшем окружении предметы одинаковой и разной формы – книги, картина, одеяло (прямоугольны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11280" y="476280"/>
            <a:ext cx="784836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660066"/>
                </a:solidFill>
                <a:uFillTx/>
                <a:latin typeface="Arial"/>
              </a:rPr>
              <a:t>Ориентировка в пространстве (расположение)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совершенствовать умение ориентироваться в окружающем пространств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обозначать в речи взаимное расположение предметов («Справа от куклы сидит заяц, а слева от куклы стоит лошадка, сзади – мишка, а впереди –машин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708360" y="5157720"/>
            <a:ext cx="1873440" cy="18734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564000" y="3357720"/>
            <a:ext cx="2087640" cy="2087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1763640" y="3933720"/>
            <a:ext cx="1563840" cy="15638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6012000" y="4005360"/>
            <a:ext cx="151128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826920" y="476280"/>
            <a:ext cx="626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9640" y="40464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979640" y="476280"/>
            <a:ext cx="4968720" cy="581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3300"/>
                </a:solidFill>
                <a:latin typeface="Verdana"/>
              </a:rPr>
              <a:t>Примерные зад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1280" y="1700280"/>
            <a:ext cx="7993080" cy="52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8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1" i="1" lang="ru-RU" sz="2400" spc="-1" strike="noStrike">
                <a:solidFill>
                  <a:srgbClr val="800000"/>
                </a:solidFill>
                <a:latin typeface="Verdana"/>
              </a:rPr>
              <a:t>на сравнение объектов по величин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гры со строительным материалом: необходимо выложить длинную и короткую дорожку, построить высокий и низкий домик 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I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ладшая групп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бенку предлагается 2 ёлочки разной высоты – под высокой ёлочкой зарыт клад. Необходимо определить какая из ёлочек выше с помощью полоски бумаги. Ребенок должен приложить полоску к одной из ёлочек, отметить её высоту, сделать сгиб на полоске, лишнее отрезать – прикладывает полоску к другой ёлочке. (старшая групп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164360" y="260280"/>
            <a:ext cx="1800360" cy="180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55640" y="1700280"/>
            <a:ext cx="7993080" cy="46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800000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Verdana"/>
              </a:rPr>
              <a:t>на сравнение объектов по форм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Ребенку предлагается найти в группе предметы одинаковой и разной формы (Например: часы, тарелки – круглые; дверь, окна, книги, альбомный лист – прямоугольные) – старшая групп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80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Verdana"/>
              </a:rPr>
              <a:t>на сравнение объектов по расположению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Ребенку необходимо расположить 3 игрушки так, что бы справа от машинки сидел медведь, слева от машинки лежал мячик, а за машинкой стоял домик. (старшая группа)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79640" y="476280"/>
            <a:ext cx="4968720" cy="581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3300"/>
                </a:solidFill>
                <a:latin typeface="Verdana"/>
              </a:rPr>
              <a:t>Примерные зад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5T15:57:50Z</dcterms:created>
  <dc:creator>1</dc:creator>
  <dc:description/>
  <dc:language>en-US</dc:language>
  <cp:lastModifiedBy>1</cp:lastModifiedBy>
  <dcterms:modified xsi:type="dcterms:W3CDTF">2010-12-26T13:37:50Z</dcterms:modified>
  <cp:revision>36</cp:revision>
  <dc:subject/>
  <dc:title>Сравнение объектов по пространственным признакам</dc:title>
</cp:coreProperties>
</file>